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98375"/>
        <c:axId val="59101720"/>
      </c:barChart>
      <c:catAx>
        <c:axId val="70898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1720"/>
        <c:crosses val="autoZero"/>
        <c:auto val="1"/>
        <c:lblAlgn val="ctr"/>
        <c:lblOffset val="100"/>
        <c:noMultiLvlLbl val="0"/>
      </c:catAx>
      <c:valAx>
        <c:axId val="59101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98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FF3-32BA-42F2-89CD-914E77BE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CB8-3741-410D-8A7D-C7F299CC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2DE-E290-4237-B5E4-71F36B54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B0B-DAD5-423F-9A6F-AEBF4293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B68-C568-47F4-BC88-563F82CE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F67-279E-40EE-BF12-B6F3561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691-F7ED-4F19-AE7E-BB23EEB7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F1B-8F23-41AF-8484-FEA463A2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951-C957-4CFB-9116-A18696BB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1F1-E5C5-4764-8610-3D17DC3F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343-5782-4D0E-A1CD-5A90D53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EA2-1D74-4C1A-A548-4484E68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46E05-A657-42BC-BFBB-06FBFC3A3F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