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95681"/>
        <c:axId val="80048040"/>
      </c:barChart>
      <c:catAx>
        <c:axId val="12956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048040"/>
        <c:crosses val="autoZero"/>
        <c:auto val="1"/>
        <c:lblAlgn val="ctr"/>
        <c:lblOffset val="100"/>
        <c:noMultiLvlLbl val="0"/>
      </c:catAx>
      <c:valAx>
        <c:axId val="800480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956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1DA5-643F-4375-A10D-37429C06E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7787-992B-4F59-AC38-63770890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AE16-84E8-4C5F-9975-734C2067A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5F36-04C1-4BEE-9D77-5B7478A48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0E8D-1113-4F85-B82B-C5920C00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7EF1-79E8-4D4F-B0DE-E7BFFBB4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C7BD-A0C7-49DA-ACAA-7AA13A08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C7D2-769A-42B1-AFA4-5A517735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C622-9277-45EE-A35E-BF9F317D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7268-C0DC-47AF-8358-BD3DC988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BC75-A205-48E6-A6F2-62BEF71A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3B4D-204C-40E0-A5A0-8AC84BD9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17E4AE-18E3-4CF4-A7F1-ABA1887F83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