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91364"/>
        <c:axId val="61229774"/>
      </c:barChart>
      <c:catAx>
        <c:axId val="35291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29774"/>
        <c:crosses val="autoZero"/>
        <c:auto val="1"/>
        <c:lblAlgn val="ctr"/>
        <c:lblOffset val="100"/>
        <c:noMultiLvlLbl val="0"/>
      </c:catAx>
      <c:valAx>
        <c:axId val="61229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91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9B9-A239-475E-B470-70900D93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07F-E4C3-484A-B178-BF37204D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F9C-E7A9-4BE1-8442-3EF594D2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9A2-2986-4352-832E-57CD252E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FF5-5DBB-4CB7-A92B-7542770B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581-332D-4A04-B940-64E50F9D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FFA-6AB4-4D4A-8AC6-6EBAD94B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542-8AF1-4BE8-84DA-6664FCED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89A-180B-434B-B196-444375DE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8B8-2A10-4C91-803D-F082A206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F65-FD80-44A2-8A0E-CD54FBF1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07F-45D1-48E3-807C-017E3506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98B01-CFC5-4B30-A6CA-250D61D7B8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