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25433"/>
        <c:axId val="89835658"/>
      </c:barChart>
      <c:catAx>
        <c:axId val="56425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35658"/>
        <c:crosses val="autoZero"/>
        <c:auto val="1"/>
        <c:lblAlgn val="ctr"/>
        <c:lblOffset val="100"/>
        <c:noMultiLvlLbl val="0"/>
      </c:catAx>
      <c:valAx>
        <c:axId val="89835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25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651-C3A8-4642-B747-71533D67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022-70FA-4E15-B58D-B0269F1E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B8A-44EE-4408-83B0-FE41E8F7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76A-D63A-431D-9B62-FFFC451E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9B5-6AA1-4F75-B231-3786AB97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74E-0002-4A80-A024-E8F7FD43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E00-6A94-462B-8B8D-74CD8E64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A69-736C-4E71-A6CD-5BC38C64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390-3BDB-427E-B90A-14048A4D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453-403F-4236-AFA6-6F4A2A15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061-0ED4-4A39-8266-32009086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873-8256-4FB7-8981-07CE258E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44C9F-0346-4AA8-A87A-DF30854202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