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44349"/>
        <c:axId val="4785037"/>
      </c:barChart>
      <c:catAx>
        <c:axId val="55044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5037"/>
        <c:crosses val="autoZero"/>
        <c:auto val="1"/>
        <c:lblAlgn val="ctr"/>
        <c:lblOffset val="100"/>
        <c:noMultiLvlLbl val="0"/>
      </c:catAx>
      <c:valAx>
        <c:axId val="47850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44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02E-ADD9-43F1-9D18-83F3F1D1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187-12C6-4AE4-B691-CF0EDBA7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20F-7F55-4295-960D-83DD90AF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929-74BE-4889-97C8-A37E8B0F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BEA-F293-44E8-87D5-F5406EFF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3A6-5D2B-42C4-9095-CDF53A5E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B32-A3F6-4868-BD12-AD2B852A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503-4B44-44AE-A265-79A4136E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E98-2FC5-4CF3-84ED-3831544C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A30-9E30-43F6-AABB-553AB3CE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C7C-5747-44D4-BD3F-3CB6BE07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F43-F675-455D-8381-1FDC813D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1A77F-F971-448B-B23C-56F435073C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