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01447"/>
        <c:axId val="85584361"/>
      </c:barChart>
      <c:catAx>
        <c:axId val="36001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4361"/>
        <c:crosses val="autoZero"/>
        <c:auto val="1"/>
        <c:lblAlgn val="ctr"/>
        <c:lblOffset val="100"/>
        <c:noMultiLvlLbl val="0"/>
      </c:catAx>
      <c:valAx>
        <c:axId val="85584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1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F7D-DF14-4149-932C-CBB47911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CC7-60A4-49C0-AE24-F0FE645B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01F-D9B2-4DDB-AE16-0FD6DCC6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20D-0353-4560-8966-B6CFD76A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B79-B536-4451-A794-5B35DC9E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D30-2859-4CAF-B1C2-6DAA391F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8E5-C59D-4AF1-B0AC-0F7CD128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3E0-E1CD-4DD2-80DB-80862C60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981-0830-415C-8888-B5E5D9ED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54F-6858-419A-8B3E-3C55FC7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A3E-8E7B-4AA8-9886-D30776C5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99E-3480-4067-888A-839D06C3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46EDA-A228-4DF8-89D7-67FFBA7D43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