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22105"/>
        <c:axId val="61610553"/>
      </c:barChart>
      <c:catAx>
        <c:axId val="511221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10553"/>
        <c:crosses val="autoZero"/>
        <c:auto val="1"/>
        <c:lblAlgn val="ctr"/>
        <c:lblOffset val="100"/>
        <c:noMultiLvlLbl val="0"/>
      </c:catAx>
      <c:valAx>
        <c:axId val="616105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221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176D-DEA2-417E-8F76-5849D19F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469-273E-45F3-A3AD-10185C7A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DA8-E6B7-4EE5-8957-BFFEA815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BE4A-B135-4DE2-8F24-F90DC93D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24F-14DB-481F-802C-070752EC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1DC-67E0-415C-A4F0-084E6DCF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4D3-961D-4464-8158-F655ED1A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0779-333B-48A1-94D6-B421B088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0BBA-1BE1-4E52-A525-2646DBEC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B160-2F10-4ACE-B643-00B15AF8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527A-F49D-41DA-AFDD-97043190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2227-B6CE-4EAE-AF8E-E0F7DEF4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0E987-3698-436D-A6B6-3051DE125C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