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00912"/>
        <c:axId val="83575368"/>
      </c:barChart>
      <c:catAx>
        <c:axId val="29400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5368"/>
        <c:crosses val="autoZero"/>
        <c:auto val="1"/>
        <c:lblAlgn val="ctr"/>
        <c:lblOffset val="100"/>
        <c:noMultiLvlLbl val="0"/>
      </c:catAx>
      <c:valAx>
        <c:axId val="83575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00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4FD-B1E1-4190-BCE9-E13A8E9A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8B8-BD94-4F82-A2FD-7A153156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4C9-795B-4175-9FCE-BAF75016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E8B-C700-4E9C-8D4F-44B5AC6D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B9A-1DD0-488C-8527-6A988F08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069-7073-422E-B701-879DCC2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7B3-820E-4960-B172-20B633B5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6EF-449B-4126-A58C-9214994F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70B-E69B-438C-A4BF-70C47C2B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119-B077-47F2-A69D-46A47B7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50D-B5B4-4501-991B-5EE0A22C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66F-317C-4E9D-829E-04E06274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A4238-BC06-4765-A90D-75F733C066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