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064148"/>
        <c:axId val="49853858"/>
      </c:barChart>
      <c:catAx>
        <c:axId val="420641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53858"/>
        <c:crosses val="autoZero"/>
        <c:auto val="1"/>
        <c:lblAlgn val="ctr"/>
        <c:lblOffset val="100"/>
        <c:noMultiLvlLbl val="0"/>
      </c:catAx>
      <c:valAx>
        <c:axId val="498538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641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9FB9-3755-4B17-9FFF-075FDB34A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21EE-71B8-4D84-BB60-4E8BD914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3A04-9747-485A-96FB-D31CB02E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294A-377D-45A9-85D4-3E5D19314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F6E6-0D01-4991-BCD4-E95E46F6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20E9-B609-4AF8-9CD0-FB0FBAB5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FF2B-BA86-4C7D-885E-54F15E27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6868-2069-45DF-9E8A-4F060554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AFE8-9F4A-4B7A-810A-9E2DBF0C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3BC8-C3A0-4BFA-8CD1-B1F934DF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5AC8-E06C-4E77-A3FE-DBD78B62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91CE-5077-4923-BF21-7DAFF04A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59313-5E47-4389-9207-4D3A54E145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