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48784"/>
        <c:axId val="43608084"/>
      </c:barChart>
      <c:catAx>
        <c:axId val="60548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08084"/>
        <c:crosses val="autoZero"/>
        <c:auto val="1"/>
        <c:lblAlgn val="ctr"/>
        <c:lblOffset val="100"/>
        <c:noMultiLvlLbl val="0"/>
      </c:catAx>
      <c:valAx>
        <c:axId val="43608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48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882-B290-4D43-AC62-BD90AC1C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0F0-71A7-4D7A-9BA6-6217B1DE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327-C6B1-4F06-9171-268ADC8B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608-AD73-4E58-805E-396D95D5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E7F-A385-4B96-9C7B-EB16DFA4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B19-0AC7-446F-89F7-24C96FE7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BF9-663A-4196-AEA7-7F1A86F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434-434C-4CC6-86C3-9B4FD62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BD0-3C8A-4D7D-B286-FB03AB0A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8AF-CCF9-4797-A930-EF898EF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D73-FB57-4C77-AAAB-8DF9A93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EEA-C024-4EB4-BF0A-21AD0FC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59E5E-5ACD-4231-AEFD-7BF9B5CB9E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