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50307"/>
        <c:axId val="60379500"/>
      </c:barChart>
      <c:catAx>
        <c:axId val="51850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9500"/>
        <c:crosses val="autoZero"/>
        <c:auto val="1"/>
        <c:lblAlgn val="ctr"/>
        <c:lblOffset val="100"/>
        <c:noMultiLvlLbl val="0"/>
      </c:catAx>
      <c:valAx>
        <c:axId val="60379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50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4EC-BFF6-4D15-B9CE-9EDF1977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53A-C54C-4C70-86E8-BAA17896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313-3AD6-4AE6-89F3-A84B43B1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900-4A26-46C5-ACAF-8F416E06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CA6-0E7E-4ECB-83B0-7601A03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841-C127-41D0-9EDB-2C41A545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7BB-EE07-42DC-97A8-A2140BA0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3EA-08C5-4FD6-866C-9D24F9D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747-EF74-48CC-B7F3-419F99E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64F-0092-4D25-82CA-C1537BD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5B3-141D-4CF7-81DF-DBE687B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A48-6E1B-4B85-992F-45A3DD9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6E6F3-9F2C-492D-A3C8-15EC959937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