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01042-9ED8-4451-9967-5230F081B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24B3-9DF2-49D9-ACCC-80E666D64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78B8-2DE7-4DBD-ABAE-DEFB06530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98DF-0D15-4BF0-A25A-BB38554FB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6259-AB99-494F-A410-D99B245EF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3C47-01A1-445C-9F30-3D2CF1D75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7DB1-F3FA-42B3-BE2F-B6960122A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887A-72C8-4B2C-A9FA-F13CA045B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C162-6718-4D63-95C5-CC2C9030B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7BA5-BAA5-44DB-96C2-E74A10EC4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62B2-9CF2-45AF-B71D-9403ACFF6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0A84-C9E5-4943-AC4A-CFFAB0CE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103A-B0F1-40CA-858B-CEA506F5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6C4A0-3385-408F-A519-63E693DB010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71280" y="2060640"/>
            <a:ext cx="777708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s is mo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, come up with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inim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quirements and write just enough code to satisfy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, avoid “speculative generality”.  page 83 “Refactoring”, by Martin Fow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in JC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in SLF4J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8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rcRect l="953" t="1564" r="953" b="1392"/>
          <a:stretch/>
        </p:blipFill>
        <p:spPr>
          <a:xfrm>
            <a:off x="1042920" y="1773360"/>
            <a:ext cx="734544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Ceki </cp:lastModifiedBy>
  <dcterms:modified xsi:type="dcterms:W3CDTF">2008-09-25T09:35:06Z</dcterms:modified>
  <cp:revision>23</cp:revision>
  <dc:subject/>
  <dc:title>Slf4j &amp; logback projects</dc:title>
</cp:coreProperties>
</file>