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80EA-A2CC-4F1F-B006-B7D167719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8D0B-9228-4568-8519-2DCD51775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6C17-9D24-4B03-95FC-E993FA1D7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8CA2-3CC6-405D-8CC3-DFD623B18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B323-274B-46C0-A2C1-044FE8BD6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33DD-0954-4CEA-B095-A0B420C60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EDD9-83A7-403B-B1DC-56100D1CC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613A-413D-4FFC-A809-039989D81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07CD-1CC1-493D-94D3-6C2889A2A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07F5-83B8-40E3-B71D-53EB8356B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1FF9-4E75-4EA9-83BE-4D6845D4A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22AB-37B9-42BC-99C9-D661F0766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285D0-1BD4-4578-8FC2-FD783B6324C4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ＳｌｏｔｈＬｉｂＴｅｓ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これはテストのためのドキュメントです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なかだ</cp:lastModifiedBy>
  <dcterms:modified xsi:type="dcterms:W3CDTF">2008-04-10T04:52:20Z</dcterms:modified>
  <cp:revision>1</cp:revision>
  <dc:subject/>
  <dc:title>PowerPoint Presentation</dc:title>
</cp:coreProperties>
</file>