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A6FB1-2CC8-422D-A660-F8361466BC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C09DD-6E26-41F9-A4ED-F2543F610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5A5F5-B329-4A54-978E-0A735B8EE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E1F12-B166-4C14-940F-80422202D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66D96-C5D5-4BEC-8B82-C114B402FB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4F359-5D62-46AE-A44F-46379DF324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63AF9-2DB6-4B3E-BC09-1000B8892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3470-EEBE-4A54-9102-205EA2681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5331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D17E-BB6F-4931-B2F0-05CAD8F45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109E-D9C1-42B7-98CC-80AC6C34D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C0D2D-CE4C-4126-BB2D-568B993C05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B97ED-43AF-426C-A2BA-AE0C1B0CF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808737-FFE4-47B9-9D46-A0FD92FAD53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77800" y="4373640"/>
            <a:ext cx="1739880" cy="7300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pplic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itializ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6819840" y="4373640"/>
            <a:ext cx="1752840" cy="7318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st-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cess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769608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1447920" y="1752480"/>
            <a:ext cx="0" cy="2621160"/>
          </a:xfrm>
          <a:prstGeom prst="line">
            <a:avLst/>
          </a:prstGeom>
          <a:ln cap="sq" w="11124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215100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273560" y="1444680"/>
            <a:ext cx="0" cy="84132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066680" y="1258920"/>
            <a:ext cx="6945480" cy="51120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pplication Driv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5715000" y="3429000"/>
            <a:ext cx="182232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LinearSolv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787320" y="5357880"/>
            <a:ext cx="7759800" cy="642600"/>
            <a:chOff x="787320" y="5357880"/>
            <a:chExt cx="7759800" cy="642600"/>
          </a:xfrm>
        </p:grpSpPr>
        <p:sp>
          <p:nvSpPr>
            <p:cNvPr id="50" name=""/>
            <p:cNvSpPr/>
            <p:nvPr/>
          </p:nvSpPr>
          <p:spPr>
            <a:xfrm>
              <a:off x="2968560" y="5486400"/>
              <a:ext cx="300240" cy="210960"/>
            </a:xfrm>
            <a:prstGeom prst="diamond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30080" y="5400720"/>
              <a:ext cx="1140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TAO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216080" y="5405400"/>
              <a:ext cx="144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User cod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87320" y="5486400"/>
              <a:ext cx="300240" cy="210960"/>
            </a:xfrm>
            <a:prstGeom prst="diamond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715000" y="5357880"/>
              <a:ext cx="2832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Interface to external linear algebra tool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5291280" y="5467320"/>
              <a:ext cx="298440" cy="211320"/>
            </a:xfrm>
            <a:prstGeom prst="diamond">
              <a:avLst/>
            </a:prstGeom>
            <a:solidFill>
              <a:srgbClr val="ff7c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6" name=""/>
          <p:cNvSpPr/>
          <p:nvPr/>
        </p:nvSpPr>
        <p:spPr>
          <a:xfrm>
            <a:off x="2819520" y="3443400"/>
            <a:ext cx="94428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Ma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676520" y="3443400"/>
            <a:ext cx="982440" cy="4284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Ve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962520" y="3429000"/>
            <a:ext cx="1439640" cy="457200"/>
          </a:xfrm>
          <a:prstGeom prst="roundRect">
            <a:avLst>
              <a:gd name="adj" fmla="val 16667"/>
            </a:avLst>
          </a:prstGeom>
          <a:solidFill>
            <a:srgbClr val="ff7c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TaoIndex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048120" y="4375080"/>
            <a:ext cx="3429000" cy="73044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unction and Derivative Evalu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5562720" y="2954160"/>
            <a:ext cx="0" cy="141948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27672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724280" y="27432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2728800"/>
            <a:ext cx="0" cy="700200"/>
          </a:xfrm>
          <a:prstGeom prst="line">
            <a:avLst/>
          </a:prstGeom>
          <a:ln cap="sq" w="889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835280" y="2287440"/>
            <a:ext cx="5632200" cy="69876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TAO Optimization Solver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06T18:21:32Z</dcterms:created>
  <dc:creator>Steve Benson</dc:creator>
  <dc:description/>
  <dc:language>en-US</dc:language>
  <cp:lastModifiedBy>Jorge More'</cp:lastModifiedBy>
  <cp:lastPrinted>2000-07-08T18:52:06Z</cp:lastPrinted>
  <dcterms:modified xsi:type="dcterms:W3CDTF">2001-08-17T16:57:17Z</dcterms:modified>
  <cp:revision>202</cp:revision>
  <dc:subject/>
  <dc:title>Toolkit for Advanced Optimiz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2632256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0</vt:bool>
  </property>
  <property fmtid="{D5CDD505-2E9C-101B-9397-08002B2CF9AE}" pid="7" name="GraphicType">
    <vt:r8>1</vt:r8>
  </property>
  <property fmtid="{D5CDD505-2E9C-101B-9397-08002B2CF9AE}" pid="8" name="HomePage">
    <vt:lpwstr>http://www.mcs.anl.gov/~more</vt:lpwstr>
  </property>
  <property fmtid="{D5CDD505-2E9C-101B-9397-08002B2CF9AE}" pid="9" name="LinkColor">
    <vt:r8>255</vt:r8>
  </property>
  <property fmtid="{D5CDD505-2E9C-101B-9397-08002B2CF9AE}" pid="10" name="MailAddress">
    <vt:lpwstr>more@mcs.anl.gov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C:\My Documents\www</vt:lpwstr>
  </property>
  <property fmtid="{D5CDD505-2E9C-101B-9397-08002B2CF9AE}" pid="14" name="ScreenSize">
    <vt:r8>2</vt:r8>
  </property>
  <property fmtid="{D5CDD505-2E9C-101B-9397-08002B2CF9AE}" pid="15" name="ScreenUsage">
    <vt:r8>2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4194368</vt:r8>
  </property>
  <property fmtid="{D5CDD505-2E9C-101B-9397-08002B2CF9AE}" pid="19" name="TransparentButton">
    <vt:r8>-1</vt:r8>
  </property>
  <property fmtid="{D5CDD505-2E9C-101B-9397-08002B2CF9AE}" pid="20" name="UseBrowserColor">
    <vt:bool>0</vt:bool>
  </property>
  <property fmtid="{D5CDD505-2E9C-101B-9397-08002B2CF9AE}" pid="21" name="VisitedColor">
    <vt:r8>16711680</vt:r8>
  </property>
</Properties>
</file>