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35953"/>
        <c:axId val="6250308"/>
      </c:barChart>
      <c:catAx>
        <c:axId val="21535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0308"/>
        <c:crosses val="autoZero"/>
        <c:auto val="1"/>
        <c:lblAlgn val="ctr"/>
        <c:lblOffset val="100"/>
        <c:noMultiLvlLbl val="0"/>
      </c:catAx>
      <c:valAx>
        <c:axId val="6250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35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627-4B8E-49C5-B3FC-F2CC3348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06E-696C-4605-A222-D29EC5A8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6AE-5BE5-49CC-A5D4-591D6C45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D0D-7A21-409B-8F6F-8C094C5F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1ED-7C4D-4532-9C14-BD630436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ADD-183A-49FE-B15C-0E6A8A7E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567-2D51-4632-A33A-E713847B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238-587D-493F-8AF6-F24E33E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E2A-803B-4C8F-AA29-63FB20CC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59E-A89F-4737-8BDB-2F2EBF6C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C3D-7808-475B-9727-22A743D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B66-E6E6-4CFC-AB56-D4E1D145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572E1-9FA4-40EC-A123-1198A4C2E8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