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069632"/>
        <c:axId val="86158525"/>
      </c:barChart>
      <c:catAx>
        <c:axId val="510696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158525"/>
        <c:crosses val="autoZero"/>
        <c:auto val="1"/>
        <c:lblAlgn val="ctr"/>
        <c:lblOffset val="100"/>
        <c:noMultiLvlLbl val="0"/>
      </c:catAx>
      <c:valAx>
        <c:axId val="861585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0696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33AE-C8C5-436C-858B-6CFED7842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9027-F9CB-42EC-990C-6EE18B8E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4BAB-382C-47DF-8AE1-CB76BCDFD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2554-A502-4C3B-8979-487523394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A757-4347-4A7C-BA8D-2BF5090E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D3B9-2C43-45DD-AE3D-FCC6B13D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159F-334D-4F8A-81F3-9DC63CE1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E0DF-3F09-47DC-B6D4-6F84359C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EFA2-199D-412F-AAB8-09909034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2D1E-71E9-43D4-B442-FFB02513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CE23-40BC-4DD7-B726-A74BCCD5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9CDE-9EE9-4162-AF4B-30ECC148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6E4E4-6689-4AA6-AABF-4E9B76B7EC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