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414691"/>
        <c:axId val="58105996"/>
      </c:barChart>
      <c:catAx>
        <c:axId val="844146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105996"/>
        <c:crosses val="autoZero"/>
        <c:auto val="1"/>
        <c:lblAlgn val="ctr"/>
        <c:lblOffset val="100"/>
        <c:noMultiLvlLbl val="0"/>
      </c:catAx>
      <c:valAx>
        <c:axId val="58105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4146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D064-0AB8-4DD6-85AE-BAAD863F6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9D4D-A46A-4374-AA7A-39D118D3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D42B-9CAC-4DD9-BEF4-158AC9FB3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1DFC-88F0-416B-AA91-DA4F156D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AF0E-53CA-4C4B-B7DD-BE107089F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C5E0-E201-48D3-8477-30DFDE90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E2F2-2359-45AC-AA4F-70D39293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EB8-9E95-4A6F-BBD1-F364005F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219-D54A-490C-A043-CF615259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3A31-069D-445C-B70A-64EF95650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FFAF-A367-45BE-81C6-37F76CD7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9CE-0E8A-4D3B-B0AB-703954811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332606-2957-42F8-87A4-15E03448184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