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1960" y="6232680"/>
            <a:ext cx="133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onald D. (Ron) Ry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hair T1P1.SA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810560" y="6324480"/>
            <a:ext cx="105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lide </a:t>
            </a:r>
            <a:fld id="{BAA1F27D-EF04-44C9-A5EC-D4DD30E2DAFB}" type="slidenum"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81440" y="6324480"/>
            <a:ext cx="15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opyright Nortel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57360" y="22860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T1P1/2001-0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8320" y="1752480"/>
            <a:ext cx="44449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52388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41768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02920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123920" y="1295280"/>
            <a:ext cx="54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99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9718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1" name=""/>
          <p:cNvGraphicFramePr/>
          <p:nvPr/>
        </p:nvGraphicFramePr>
        <p:xfrm>
          <a:off x="4343400" y="4038480"/>
          <a:ext cx="4114800" cy="2032200"/>
        </p:xfrm>
        <a:graphic>
          <a:graphicData uri="http://schemas.openxmlformats.org/drawingml/2006/table">
            <a:tbl>
              <a:tblPr/>
              <a:tblGrid>
                <a:gridCol w="685800"/>
                <a:gridCol w="1524240"/>
                <a:gridCol w="1904760"/>
              </a:tblGrid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TD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2" name=""/>
          <p:cNvSpPr/>
          <p:nvPr/>
        </p:nvSpPr>
        <p:spPr>
          <a:xfrm>
            <a:off x="3308040" y="409680"/>
            <a:ext cx="253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267080" y="1905120"/>
            <a:ext cx="60984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743200" y="190512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90720" y="2590920"/>
            <a:ext cx="609480" cy="5331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09480" y="16002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33520" y="2133720"/>
            <a:ext cx="609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143360" y="175248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734000" y="1455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881600" y="1574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317200" y="162720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974840" y="1809720"/>
            <a:ext cx="107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gacy/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199120" y="1992240"/>
            <a:ext cx="62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760840" y="46483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065400" y="46483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438280" y="2362320"/>
            <a:ext cx="381240" cy="1904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981080" y="3505320"/>
            <a:ext cx="609840" cy="761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3370320" y="3429000"/>
            <a:ext cx="668160" cy="838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3123720" y="2286000"/>
            <a:ext cx="762120" cy="1981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303640" y="4267080"/>
            <a:ext cx="1295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532240" y="5181480"/>
            <a:ext cx="761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2287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1431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7542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838080" y="190512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57400" y="3048120"/>
            <a:ext cx="19810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1143000" y="1905120"/>
            <a:ext cx="76212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38800" y="297180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429000" y="167652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905120" y="16765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600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886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752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86000" y="2057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038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733920" y="2057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191200" y="2598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338800" y="2717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715000" y="289548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51640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27852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8116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832400" y="1371600"/>
            <a:ext cx="122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rcui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221120" y="2514600"/>
            <a:ext cx="12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1848960" y="2133720"/>
            <a:ext cx="5444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earer Independ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ircuit-Switched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2019240" y="2819520"/>
            <a:ext cx="83844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86200" y="3886200"/>
            <a:ext cx="270504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46716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37228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390840" y="4038480"/>
            <a:ext cx="99072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4838760" y="4038480"/>
            <a:ext cx="45720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2705040" y="4038480"/>
            <a:ext cx="4572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933280" y="4038480"/>
            <a:ext cx="20574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181160" y="25909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59092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68648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409760" y="4648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&amp;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152960" y="5029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362680" y="24382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096280" y="325116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384080" y="243828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215240" y="36180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47004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37516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859480" y="434340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3072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9248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6972120" y="3200400"/>
            <a:ext cx="2286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058080" y="49276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58080" y="5156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21640" y="48006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591240" y="37339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_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074600" y="1447920"/>
            <a:ext cx="486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Separation of circuit-switched bearer and call contr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61720" y="213372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 or Circu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133720" y="27432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162240" y="25909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886200" y="2743200"/>
            <a:ext cx="127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067360" y="25909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791320" y="2743200"/>
            <a:ext cx="118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515280" y="2362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4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4829400" cy="2743200"/>
          </a:xfrm>
          <a:prstGeom prst="rect">
            <a:avLst/>
          </a:prstGeom>
          <a:ln w="0">
            <a:noFill/>
          </a:ln>
        </p:spPr>
      </p:pic>
      <p:sp>
        <p:nvSpPr>
          <p:cNvPr id="1305" name=""/>
          <p:cNvSpPr/>
          <p:nvPr/>
        </p:nvSpPr>
        <p:spPr>
          <a:xfrm>
            <a:off x="923040" y="1523880"/>
            <a:ext cx="555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4572000" cy="3476520"/>
          </a:xfrm>
          <a:prstGeom prst="rect">
            <a:avLst/>
          </a:prstGeom>
          <a:ln w="0">
            <a:noFill/>
          </a:ln>
        </p:spPr>
      </p:pic>
      <p:sp>
        <p:nvSpPr>
          <p:cNvPr id="1352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278800" y="548640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155240" y="1295280"/>
            <a:ext cx="697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Circuit-Switched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4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21000" y="1295280"/>
            <a:ext cx="6732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Intercept at Acces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VoP at MG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or IRI Delivery to LEA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SC 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"/>
          <p:cNvSpPr/>
          <p:nvPr/>
        </p:nvSpPr>
        <p:spPr>
          <a:xfrm>
            <a:off x="3048120" y="2514600"/>
            <a:ext cx="76176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371600" y="2514600"/>
            <a:ext cx="76212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8380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3526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152388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350532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066680" y="2133720"/>
            <a:ext cx="0" cy="11430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809880" y="266688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50820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52676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133720" y="266688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523880" y="2133720"/>
            <a:ext cx="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828800" y="3429000"/>
            <a:ext cx="1523880" cy="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990720" y="12952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914400" y="18288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067400" y="22096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1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1735200" cy="911520"/>
          </a:xfrm>
          <a:prstGeom prst="rect">
            <a:avLst/>
          </a:prstGeom>
          <a:ln w="0">
            <a:noFill/>
          </a:ln>
        </p:spPr>
      </p:pic>
      <p:sp>
        <p:nvSpPr>
          <p:cNvPr id="1402" name=""/>
          <p:cNvSpPr/>
          <p:nvPr/>
        </p:nvSpPr>
        <p:spPr>
          <a:xfrm>
            <a:off x="2209680" y="48769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514600" y="48769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133720" y="3048120"/>
            <a:ext cx="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828800" y="3809880"/>
            <a:ext cx="7632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2819520" y="3809880"/>
            <a:ext cx="45720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2590920" y="3048120"/>
            <a:ext cx="45720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752480" y="4495680"/>
            <a:ext cx="1295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981080" y="5410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676520" y="35053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9810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200400" y="3505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6779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5923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44972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135520" y="31240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12588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440080" y="35812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8954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439360" y="23623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219320" y="16002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329280" y="409680"/>
            <a:ext cx="248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3" name=""/>
          <p:cNvGraphicFramePr/>
          <p:nvPr/>
        </p:nvGraphicFramePr>
        <p:xfrm>
          <a:off x="3886200" y="3962520"/>
          <a:ext cx="4648320" cy="1950840"/>
        </p:xfrm>
        <a:graphic>
          <a:graphicData uri="http://schemas.openxmlformats.org/drawingml/2006/table">
            <a:tbl>
              <a:tblPr/>
              <a:tblGrid>
                <a:gridCol w="1066680"/>
                <a:gridCol w="1752840"/>
                <a:gridCol w="1828800"/>
              </a:tblGrid>
              <a:tr h="51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, 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er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G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95360" y="1523880"/>
          <a:ext cx="8153280" cy="3962520"/>
        </p:xfrm>
        <a:graphic>
          <a:graphicData uri="http://schemas.openxmlformats.org/drawingml/2006/table">
            <a:tbl>
              <a:tblPr/>
              <a:tblGrid>
                <a:gridCol w="914400"/>
                <a:gridCol w="1104840"/>
                <a:gridCol w="1219320"/>
                <a:gridCol w="3429000"/>
                <a:gridCol w="1485720"/>
              </a:tblGrid>
              <a:tr h="60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ew in UM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le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19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2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S Domain (Iu-P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ATM Network 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Interception of packet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nd Publish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earer Independent Circuit-Switched Core Net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eparation of bearer and call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ontent interception @ Media Gate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 Publish 12-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-Media Domain (All IP Networ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all State Control Function (CSC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IP Call/Session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Real Time Multi-Media Services other than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* Final Rel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age 1 and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Access-to-D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534760" y="441360"/>
            <a:ext cx="40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and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"/>
          <p:cNvSpPr/>
          <p:nvPr/>
        </p:nvSpPr>
        <p:spPr>
          <a:xfrm>
            <a:off x="1696680" y="234000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ulti-Media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/>
          <p:nvPr/>
        </p:nvSpPr>
        <p:spPr>
          <a:xfrm>
            <a:off x="3352680" y="33526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733920" y="3276720"/>
            <a:ext cx="121896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181480" y="3276720"/>
            <a:ext cx="0" cy="9903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638680" y="3200400"/>
            <a:ext cx="990720" cy="3049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295280" y="43434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439000" y="41911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898000" y="3657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023720" y="422748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946120" y="3048120"/>
            <a:ext cx="45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192560" y="29718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2400" y="3657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371600" y="50799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371600" y="53085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135520" y="49528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800600" y="30481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590480" y="1600200"/>
            <a:ext cx="59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multi-media services via GSN data network ele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869080" y="39625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657600" y="3352680"/>
            <a:ext cx="1371600" cy="10670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971800" y="31240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888720" y="3733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286000" y="4495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9718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733920" y="44956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8006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5562720" y="3962520"/>
            <a:ext cx="12189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324480" y="3352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867280" y="2438280"/>
            <a:ext cx="1143000" cy="304920"/>
          </a:xfrm>
          <a:prstGeom prst="wedgeRoundRectCallout">
            <a:avLst>
              <a:gd name="adj1" fmla="val -60416"/>
              <a:gd name="adj2" fmla="val 136458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P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/>
          <p:nvPr/>
        </p:nvSpPr>
        <p:spPr>
          <a:xfrm>
            <a:off x="685800" y="40384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829520" y="3886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21220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337920" y="39225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107680" y="266688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506760" y="2590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6600" y="3352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62120" y="48513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62120" y="50799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525680" y="47242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946800" y="1600200"/>
            <a:ext cx="724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 via Media-Gatew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 to 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802400" y="4495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202920" y="34290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794200" y="40384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600200" y="4191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28600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971800" y="4191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19112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666880" y="304812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2860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495680" y="297180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200400" y="297180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200400" y="289548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14800" y="27432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952880" y="289548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715000" y="3505320"/>
            <a:ext cx="0" cy="12189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410080" y="31240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172200" y="327672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7238880" y="388620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858000" y="35053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876920" y="4191120"/>
            <a:ext cx="76176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257800" y="4800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0958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629400" y="4495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9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490" name=""/>
          <p:cNvSpPr/>
          <p:nvPr/>
        </p:nvSpPr>
        <p:spPr>
          <a:xfrm>
            <a:off x="923040" y="1523880"/>
            <a:ext cx="55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050560" y="510552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2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572000" cy="3476880"/>
          </a:xfrm>
          <a:prstGeom prst="rect">
            <a:avLst/>
          </a:prstGeom>
          <a:ln w="0">
            <a:noFill/>
          </a:ln>
        </p:spPr>
      </p:pic>
      <p:sp>
        <p:nvSpPr>
          <p:cNvPr id="1523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10360" y="1447920"/>
            <a:ext cx="75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278800" y="563868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850320" y="1523880"/>
            <a:ext cx="712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8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559" name=""/>
          <p:cNvSpPr/>
          <p:nvPr/>
        </p:nvSpPr>
        <p:spPr>
          <a:xfrm>
            <a:off x="2431440" y="525780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943200" y="1447920"/>
            <a:ext cx="61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705720" y="3429000"/>
            <a:ext cx="1218960" cy="457200"/>
          </a:xfrm>
          <a:prstGeom prst="wedgeRoundRectCallout">
            <a:avLst>
              <a:gd name="adj1" fmla="val -57814"/>
              <a:gd name="adj2" fmla="val -137847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/>
          <p:nvPr/>
        </p:nvSpPr>
        <p:spPr>
          <a:xfrm>
            <a:off x="26290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8526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0" y="24764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9144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2096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3716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7524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4860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67148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601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369800" y="198108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Session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72428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09588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2578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6386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3722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56272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4878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334840" y="198108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CSCF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858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843480" y="3048120"/>
            <a:ext cx="6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495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726080" y="304812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010280" y="4800600"/>
            <a:ext cx="152424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ession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SIP Sign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70716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250320" y="3581280"/>
            <a:ext cx="6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440080" y="3581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74464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124080" y="4800600"/>
            <a:ext cx="1752840" cy="1013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Subject-Associate Real Time communication  under control of CSC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VoIP, Video, Messaging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156320" y="1371600"/>
            <a:ext cx="61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162920" y="2819520"/>
            <a:ext cx="1218960" cy="457200"/>
          </a:xfrm>
          <a:prstGeom prst="wedgeRoundRectCallout">
            <a:avLst>
              <a:gd name="adj1" fmla="val -64064"/>
              <a:gd name="adj2" fmla="val 120486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287800" y="48006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172920" y="48006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"/>
          <p:cNvSpPr/>
          <p:nvPr/>
        </p:nvSpPr>
        <p:spPr>
          <a:xfrm>
            <a:off x="685800" y="3962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829520" y="380988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212200" y="3276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3337920" y="384660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107680" y="259092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506760" y="2514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16600" y="3276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46990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580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449720" y="45720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849960" y="1371600"/>
            <a:ext cx="582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treated as packet intercepts and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t a circuit-switched intercept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802400" y="4419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20292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870160" y="396252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600200" y="41148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28600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971800" y="4114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19112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666880" y="297180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286000" y="2743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495680" y="28954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200400" y="289548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200400" y="281952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114800" y="26668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952880" y="281952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715000" y="3429000"/>
            <a:ext cx="0" cy="12193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410080" y="30481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172200" y="320040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7238880" y="380988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8580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743200" y="42670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648320" y="28954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876920" y="4114800"/>
            <a:ext cx="68580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257800" y="47242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095880" y="48769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629400" y="4419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809880" y="5410080"/>
            <a:ext cx="2133720" cy="533520"/>
          </a:xfrm>
          <a:prstGeom prst="wedgeRoundRectCallout">
            <a:avLst>
              <a:gd name="adj1" fmla="val 57365"/>
              <a:gd name="adj2" fmla="val -141370"/>
              <a:gd name="adj3" fmla="val 16667"/>
            </a:avLst>
          </a:prstGeom>
          <a:noFill/>
          <a:ln w="93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Times New Roman"/>
              </a:rPr>
              <a:t>VoIP not intercepted as circuit-switched voice</a:t>
            </a:r>
            <a:r>
              <a:rPr b="0" lang="en-US" sz="14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89548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97180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80060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87692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6320" y="380880"/>
            <a:ext cx="28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Referenc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8610480" cy="51055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00160" y="1066680"/>
            <a:ext cx="8528400" cy="4700880"/>
            <a:chOff x="200160" y="1066680"/>
            <a:chExt cx="8528400" cy="4700880"/>
          </a:xfrm>
        </p:grpSpPr>
        <p:sp>
          <p:nvSpPr>
            <p:cNvPr id="47" name=""/>
            <p:cNvSpPr/>
            <p:nvPr/>
          </p:nvSpPr>
          <p:spPr>
            <a:xfrm>
              <a:off x="6159600" y="3735360"/>
              <a:ext cx="3697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9960" y="5765760"/>
              <a:ext cx="1080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8424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03400" y="5765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7936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65480" y="2835360"/>
              <a:ext cx="180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56120" y="2954160"/>
              <a:ext cx="184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809640" y="1066680"/>
              <a:ext cx="6868800" cy="4503600"/>
              <a:chOff x="809640" y="1066680"/>
              <a:chExt cx="6868800" cy="4503600"/>
            </a:xfrm>
          </p:grpSpPr>
          <p:sp>
            <p:nvSpPr>
              <p:cNvPr id="55" name=""/>
              <p:cNvSpPr/>
              <p:nvPr/>
            </p:nvSpPr>
            <p:spPr>
              <a:xfrm>
                <a:off x="3662280" y="3019680"/>
                <a:ext cx="165240" cy="19800"/>
              </a:xfrm>
              <a:custGeom>
                <a:avLst/>
                <a:gdLst/>
                <a:ahLst/>
                <a:rect l="l" t="t" r="r" b="b"/>
                <a:pathLst>
                  <a:path w="103" h="13">
                    <a:moveTo>
                      <a:pt x="103" y="6"/>
                    </a:moveTo>
                    <a:lnTo>
                      <a:pt x="103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0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728160" y="2892240"/>
                <a:ext cx="296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93680" y="29030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793680" y="2903040"/>
                <a:ext cx="1976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93680" y="29138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93680" y="29246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93680" y="2924640"/>
                <a:ext cx="2088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792960" y="2924640"/>
                <a:ext cx="135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111640" y="2955240"/>
                <a:ext cx="18576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132520" y="2976840"/>
                <a:ext cx="1429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132520" y="298764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132520" y="2998080"/>
                <a:ext cx="199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132160" y="29980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011920" y="1611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011920" y="1622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11920" y="1632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011920" y="1643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011920" y="1665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011920" y="167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011920" y="16851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011920" y="1695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011920" y="1706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011920" y="1717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11920" y="1728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011920" y="1748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11920" y="1748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011920" y="1769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011920" y="1780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11920" y="1791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011920" y="1801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011920" y="1811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011920" y="18223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011920" y="1832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11920" y="185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011920" y="1865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01192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06920" y="161136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06920" y="1674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06920" y="17067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06920" y="17697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706920" y="181152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706920" y="18651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706920" y="19065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06920" y="196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06920" y="200016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06920" y="206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706920" y="2106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706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706920" y="219960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706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706920" y="2295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43040" y="3523680"/>
                <a:ext cx="1202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543040" y="3532680"/>
                <a:ext cx="120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3040" y="3543480"/>
                <a:ext cx="174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42320" y="3543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44400" y="259920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1080" y="2610000"/>
                <a:ext cx="2088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21080" y="2620800"/>
                <a:ext cx="186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21080" y="262080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21080" y="2631600"/>
                <a:ext cx="142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21080" y="2640600"/>
                <a:ext cx="197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12108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66640" y="2568240"/>
                <a:ext cx="2743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123160" y="258840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123160" y="258840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123160" y="2588400"/>
                <a:ext cx="1634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23160" y="25992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23160" y="26100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23160" y="2610000"/>
                <a:ext cx="148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52480" y="3354480"/>
                <a:ext cx="2854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29520" y="3365280"/>
                <a:ext cx="2084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429520" y="3376080"/>
                <a:ext cx="1857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429520" y="3376080"/>
                <a:ext cx="142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29520" y="3386880"/>
                <a:ext cx="1425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29520" y="3397680"/>
                <a:ext cx="197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429160" y="33976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81240" y="1517760"/>
                <a:ext cx="43200" cy="309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035960" y="1569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058640" y="15915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0" y="1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01840" y="16329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133880" y="166536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178880" y="17067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199760" y="172836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55920" y="17697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77160" y="1801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21800" y="1843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3840" y="18651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0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97040" y="191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419720" y="193716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62920" y="198036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96760" y="201096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540320" y="20538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73800" y="207396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17360" y="2116800"/>
                <a:ext cx="1080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39680" y="214740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682880" y="2189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16720" y="2221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759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782600" y="2284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37600" y="19695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793760" y="1991160"/>
                <a:ext cx="2516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93760" y="1991160"/>
                <a:ext cx="2293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93760" y="1991160"/>
                <a:ext cx="197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93760" y="2000160"/>
                <a:ext cx="2516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793760" y="20109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793760" y="201096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53560" y="2599200"/>
                <a:ext cx="283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28800" y="261000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528800" y="2620800"/>
                <a:ext cx="199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28800" y="2620800"/>
                <a:ext cx="1537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528800" y="2631600"/>
                <a:ext cx="1537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28800" y="2640600"/>
                <a:ext cx="208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2844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11640" y="1969560"/>
                <a:ext cx="1690200" cy="1258920"/>
              </a:xfrm>
              <a:custGeom>
                <a:avLst/>
                <a:gdLst/>
                <a:ahLst/>
                <a:rect l="l" t="t" r="r" b="b"/>
                <a:pathLst>
                  <a:path w="1053" h="820">
                    <a:moveTo>
                      <a:pt x="0" y="813"/>
                    </a:moveTo>
                    <a:lnTo>
                      <a:pt x="0" y="820"/>
                    </a:lnTo>
                    <a:lnTo>
                      <a:pt x="1053" y="7"/>
                    </a:lnTo>
                    <a:lnTo>
                      <a:pt x="1046" y="0"/>
                    </a:lnTo>
                    <a:lnTo>
                      <a:pt x="0" y="8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13260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98480" y="303948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24168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307560" y="3039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39600" y="3039480"/>
                <a:ext cx="4500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05480" y="303948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39320" y="303948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401840" y="385812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456200" y="3879720"/>
                <a:ext cx="153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456200" y="389016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56200" y="389016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56200" y="390096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56200" y="390096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456560" y="3900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862280" y="3858120"/>
                <a:ext cx="38520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973160" y="387972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973160" y="389016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73160" y="38901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973160" y="39009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73160" y="3900960"/>
                <a:ext cx="240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72800" y="39009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670360" y="371232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736240" y="3732120"/>
                <a:ext cx="42876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736240" y="3732120"/>
                <a:ext cx="384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736240" y="3742920"/>
                <a:ext cx="3628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736240" y="3742920"/>
                <a:ext cx="417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36240" y="37537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36600" y="37537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365000" y="3428280"/>
                <a:ext cx="1861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376520" y="3449880"/>
                <a:ext cx="2408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376520" y="3449880"/>
                <a:ext cx="218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376520" y="344988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76520" y="3460680"/>
                <a:ext cx="1861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376520" y="3469680"/>
                <a:ext cx="2408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375800" y="346968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88320" y="2987640"/>
                <a:ext cx="18576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310640" y="3008880"/>
                <a:ext cx="2296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10640" y="3008880"/>
                <a:ext cx="208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310640" y="30088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10640" y="30196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10640" y="3029040"/>
                <a:ext cx="2296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08840" y="3029040"/>
                <a:ext cx="16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74160" y="255744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16000" y="3679920"/>
                <a:ext cx="3081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81880" y="370152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81880" y="371232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81880" y="3712320"/>
                <a:ext cx="176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81880" y="372312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181880" y="373212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81520" y="373212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587960" y="3679920"/>
                <a:ext cx="3949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676160" y="370152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76160" y="371232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676160" y="371232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160" y="372312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676160" y="373212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676520" y="373212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148120" y="3679920"/>
                <a:ext cx="4831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202480" y="3701520"/>
                <a:ext cx="4399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202480" y="37123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202480" y="3712320"/>
                <a:ext cx="3949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02480" y="3723120"/>
                <a:ext cx="460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202480" y="3723120"/>
                <a:ext cx="4608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02840" y="372312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T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0184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96200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91320" y="3302640"/>
                <a:ext cx="746280" cy="21240"/>
              </a:xfrm>
              <a:custGeom>
                <a:avLst/>
                <a:gdLst/>
                <a:ahLst/>
                <a:rect l="l" t="t" r="r" b="b"/>
                <a:pathLst>
                  <a:path w="465" h="14">
                    <a:moveTo>
                      <a:pt x="0" y="0"/>
                    </a:moveTo>
                    <a:lnTo>
                      <a:pt x="0" y="7"/>
                    </a:lnTo>
                    <a:lnTo>
                      <a:pt x="465" y="14"/>
                    </a:lnTo>
                    <a:lnTo>
                      <a:pt x="4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8968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04876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728160" y="2472840"/>
                <a:ext cx="18720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750120" y="24836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50120" y="2494440"/>
                <a:ext cx="197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50120" y="24944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50120" y="25052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50120" y="2514600"/>
                <a:ext cx="219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749400" y="2514600"/>
                <a:ext cx="14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915360" y="255744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432240" y="3217680"/>
                <a:ext cx="789840" cy="23184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652200" y="3239280"/>
                <a:ext cx="415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652200" y="325008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52200" y="3250080"/>
                <a:ext cx="3834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652200" y="32605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652200" y="32713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652560" y="3271320"/>
                <a:ext cx="35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37600" y="3217680"/>
                <a:ext cx="58248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48480" y="3239280"/>
                <a:ext cx="4489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48480" y="3239280"/>
                <a:ext cx="4057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48480" y="3250080"/>
                <a:ext cx="39456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48480" y="3250080"/>
                <a:ext cx="4604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48480" y="326052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47760" y="326052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520800" y="2683440"/>
                <a:ext cx="3945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607560" y="2703600"/>
                <a:ext cx="297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607560" y="2703600"/>
                <a:ext cx="2631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07560" y="2714400"/>
                <a:ext cx="231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607560" y="2714400"/>
                <a:ext cx="28548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607560" y="2725200"/>
                <a:ext cx="285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07920" y="27252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I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24800" y="3154680"/>
                <a:ext cx="1800" cy="4284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024800" y="311328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024800" y="306108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024800" y="301968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024800" y="2955240"/>
                <a:ext cx="1800" cy="4248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024800" y="28616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024800" y="282024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024800" y="2757240"/>
                <a:ext cx="1800" cy="52200"/>
              </a:xfrm>
              <a:custGeom>
                <a:avLst/>
                <a:gdLst/>
                <a:ahLst/>
                <a:rect l="l" t="t" r="r" b="b"/>
                <a:pathLst>
                  <a:path w="0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24800" y="27252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024800" y="266220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24800" y="2631600"/>
                <a:ext cx="1800" cy="900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024800" y="25682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024800" y="25254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024800" y="24728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79160" y="24422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24520" y="24944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45040" y="251460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90400" y="256824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210920" y="25992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44760" y="26406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265640" y="26730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10640" y="2725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342680" y="27464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376520" y="27986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97040" y="282024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42400" y="2872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62920" y="290304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508280" y="2946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528800" y="297684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573800" y="30196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94680" y="305028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39680" y="3102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62000" y="31240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7"/>
                    </a:moveTo>
                    <a:lnTo>
                      <a:pt x="6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05560" y="31762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727880" y="320868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74440" y="307188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53560" y="3250080"/>
                <a:ext cx="9360" cy="17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670360" y="295524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26520" y="2976840"/>
                <a:ext cx="460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26520" y="297684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26520" y="2976840"/>
                <a:ext cx="405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26520" y="2987640"/>
                <a:ext cx="460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726520" y="299808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726520" y="299808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C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73800" y="1791000"/>
                <a:ext cx="746640" cy="1998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03480" y="1811520"/>
                <a:ext cx="528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82880" y="1822320"/>
                <a:ext cx="603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682880" y="1822320"/>
                <a:ext cx="60336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82880" y="1832760"/>
                <a:ext cx="669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82880" y="1832760"/>
                <a:ext cx="669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83960" y="183276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25520" y="2777040"/>
                <a:ext cx="394920" cy="189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79880" y="2798640"/>
                <a:ext cx="3610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9880" y="2798640"/>
                <a:ext cx="329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79880" y="2798640"/>
                <a:ext cx="295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79880" y="2809440"/>
                <a:ext cx="351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979880" y="2820240"/>
                <a:ext cx="351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980240" y="2820240"/>
                <a:ext cx="27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516360" y="1528560"/>
                <a:ext cx="1141560" cy="55584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68360" y="1643760"/>
                <a:ext cx="723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68360" y="164376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68360" y="1643760"/>
                <a:ext cx="6580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768360" y="1654560"/>
                <a:ext cx="712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768360" y="1665360"/>
                <a:ext cx="7027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70160" y="1665360"/>
                <a:ext cx="608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ultimedi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746040" y="1791000"/>
                <a:ext cx="7686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746040" y="1791000"/>
                <a:ext cx="800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746040" y="1791000"/>
                <a:ext cx="725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746040" y="1801800"/>
                <a:ext cx="7912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746040" y="1811520"/>
                <a:ext cx="780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745320" y="1811520"/>
                <a:ext cx="68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P Network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16360" y="3532680"/>
                <a:ext cx="114156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911280" y="3649320"/>
                <a:ext cx="406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911280" y="36601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811920" y="3660120"/>
                <a:ext cx="4057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811920" y="3660120"/>
                <a:ext cx="4622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811920" y="3669120"/>
                <a:ext cx="46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811920" y="3669120"/>
                <a:ext cx="37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STN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691320" y="3775320"/>
                <a:ext cx="8665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691320" y="3786120"/>
                <a:ext cx="987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582240" y="3786120"/>
                <a:ext cx="964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582240" y="3795120"/>
                <a:ext cx="1020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582240" y="3805920"/>
                <a:ext cx="1009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80440" y="3805920"/>
                <a:ext cx="90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egacy/Exter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60640" y="1077120"/>
                <a:ext cx="1327320" cy="9136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12640" y="1234080"/>
                <a:ext cx="9324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12640" y="1234080"/>
                <a:ext cx="846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223800" y="1234080"/>
                <a:ext cx="844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23800" y="1244880"/>
                <a:ext cx="900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223800" y="1255320"/>
                <a:ext cx="900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224520" y="1255320"/>
                <a:ext cx="799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 &amp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332880" y="1381320"/>
                <a:ext cx="6800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32880" y="1381320"/>
                <a:ext cx="780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332880" y="1381320"/>
                <a:ext cx="6800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332880" y="13921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32880" y="14029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332880" y="1402920"/>
                <a:ext cx="648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ices 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944680" y="3124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94468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44680" y="321768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94468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944680" y="33238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944680" y="33868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944680" y="341748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944680" y="34804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44680" y="35236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44680" y="3586320"/>
                <a:ext cx="1116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4680" y="361728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944680" y="3679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11920" y="2955240"/>
                <a:ext cx="11160" cy="262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198400" y="3397680"/>
                <a:ext cx="462240" cy="334440"/>
              </a:xfrm>
              <a:custGeom>
                <a:avLst/>
                <a:gdLst/>
                <a:ahLst/>
                <a:rect l="l" t="t" r="r" b="b"/>
                <a:pathLst>
                  <a:path w="288" h="218">
                    <a:moveTo>
                      <a:pt x="7" y="0"/>
                    </a:moveTo>
                    <a:lnTo>
                      <a:pt x="0" y="6"/>
                    </a:lnTo>
                    <a:lnTo>
                      <a:pt x="288" y="218"/>
                    </a:lnTo>
                    <a:lnTo>
                      <a:pt x="288" y="2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2580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82580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82580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2580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2580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2580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825800" y="27986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2580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825800" y="289224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825800" y="295524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825800" y="2998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25800" y="30610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825800" y="309168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825800" y="31546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825800" y="3187080"/>
                <a:ext cx="11160" cy="306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01192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01192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01192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01192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01192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01192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111640" y="23994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166360" y="23886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198400" y="2368440"/>
                <a:ext cx="4464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264280" y="2347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297760" y="23256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63640" y="2314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97480" y="2284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452200" y="2273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484240" y="2251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550120" y="2242800"/>
                <a:ext cx="2196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583600" y="2221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649480" y="2199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681520" y="217980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36240" y="2169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781240" y="214740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35960" y="2136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68000" y="2106000"/>
                <a:ext cx="44640" cy="2016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7" y="7"/>
                    </a:move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935320" y="2095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9673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021720" y="2063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670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21080" y="20217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53480" y="200016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19000" y="199116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252840" y="19587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319080" y="1947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351120" y="192816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405480" y="1917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39320" y="18849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50484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111640" y="2410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155200" y="24516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188680" y="247284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7" y="21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243040" y="2505240"/>
                <a:ext cx="2088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13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275440" y="25254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20440" y="2568240"/>
                <a:ext cx="2052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352480" y="258840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406840" y="26316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440680" y="26514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14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484240" y="268344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517720" y="27036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572080" y="2746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604480" y="276660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49480" y="279864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681520" y="282924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1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73624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758560" y="288324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813280" y="292464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46760" y="2946240"/>
                <a:ext cx="2088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68000" y="241020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1338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17888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244760" y="2410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2771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3426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37652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453560" y="241020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48560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551480" y="2410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5849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11920" y="1969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1920" y="1980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11920" y="19911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11920" y="2000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11920" y="2021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11920" y="20325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11920" y="2043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11920" y="2053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11920" y="2063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011920" y="2073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11920" y="2084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011920" y="2095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011920" y="2116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011920" y="2126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011920" y="2136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011920" y="2147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011920" y="2158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011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11920" y="2179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011920" y="2189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011920" y="2210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011920" y="22212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011920" y="2232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11920" y="22428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011920" y="2251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011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011920" y="22734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011920" y="2284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011920" y="230580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011920" y="2314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737600" y="268344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57920" y="205380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0"/>
                    </a:moveTo>
                    <a:lnTo>
                      <a:pt x="0" y="6"/>
                    </a:lnTo>
                    <a:lnTo>
                      <a:pt x="54" y="68"/>
                    </a:lnTo>
                    <a:lnTo>
                      <a:pt x="61" y="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57920" y="2147400"/>
                <a:ext cx="28404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79160" y="2169000"/>
                <a:ext cx="253080" cy="15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912640" y="2189160"/>
                <a:ext cx="229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912640" y="2189160"/>
                <a:ext cx="28548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912640" y="2199600"/>
                <a:ext cx="285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913720" y="21996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386320" y="258840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331600" y="1895760"/>
                <a:ext cx="2952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331600" y="19065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331600" y="1906560"/>
                <a:ext cx="2181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331600" y="19173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331600" y="1928160"/>
                <a:ext cx="2728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332320" y="192816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51480" y="1077120"/>
                <a:ext cx="987120" cy="5554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716720" y="1181880"/>
                <a:ext cx="690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16720" y="1181880"/>
                <a:ext cx="7124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671720" y="1192680"/>
                <a:ext cx="37404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71720" y="12031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671720" y="12139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669200" y="1213920"/>
                <a:ext cx="37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egac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077800" y="1181880"/>
                <a:ext cx="3513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077800" y="1192680"/>
                <a:ext cx="417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077800" y="1203120"/>
                <a:ext cx="417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076720" y="1203120"/>
                <a:ext cx="339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bil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825800" y="1296720"/>
                <a:ext cx="4604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825800" y="1296720"/>
                <a:ext cx="4716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17360" y="1329120"/>
                <a:ext cx="4827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17360" y="1339920"/>
                <a:ext cx="5486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17360" y="1350720"/>
                <a:ext cx="5486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14480" y="1350720"/>
                <a:ext cx="482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ignallin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837320" y="1413720"/>
                <a:ext cx="4381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837320" y="1413720"/>
                <a:ext cx="448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089320" y="1350720"/>
                <a:ext cx="42840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089320" y="1350720"/>
                <a:ext cx="494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089320" y="1359720"/>
                <a:ext cx="4942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88240" y="1359720"/>
                <a:ext cx="421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925520" y="214740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320440" y="346968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857920" y="3302640"/>
                <a:ext cx="18612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7"/>
                    </a:ln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044400" y="3217680"/>
                <a:ext cx="28548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99120" y="323928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099120" y="323928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099120" y="32392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099120" y="32500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099120" y="326052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09912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935240" y="2631600"/>
                <a:ext cx="187560" cy="19800"/>
              </a:xfrm>
              <a:custGeom>
                <a:avLst/>
                <a:gdLst/>
                <a:ahLst/>
                <a:rect l="l" t="t" r="r" b="b"/>
                <a:pathLst>
                  <a:path w="117" h="13">
                    <a:moveTo>
                      <a:pt x="0" y="0"/>
                    </a:moveTo>
                    <a:lnTo>
                      <a:pt x="0" y="13"/>
                    </a:lnTo>
                    <a:lnTo>
                      <a:pt x="117" y="13"/>
                    </a:lnTo>
                    <a:lnTo>
                      <a:pt x="117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87680" y="2314800"/>
                <a:ext cx="20520" cy="179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376520" y="224280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387680" y="2251800"/>
                <a:ext cx="2404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387680" y="2262600"/>
                <a:ext cx="2181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397040" y="226260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397040" y="2273400"/>
                <a:ext cx="1656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397040" y="2284200"/>
                <a:ext cx="2199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396680" y="228420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944680" y="2505240"/>
                <a:ext cx="110880" cy="9360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7" y="0"/>
                    </a:moveTo>
                    <a:lnTo>
                      <a:pt x="0" y="6"/>
                    </a:lnTo>
                    <a:lnTo>
                      <a:pt x="62" y="61"/>
                    </a:lnTo>
                    <a:lnTo>
                      <a:pt x="69" y="5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896120" y="3154680"/>
                <a:ext cx="1638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400480" y="3154680"/>
                <a:ext cx="285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631600" y="3228480"/>
                <a:ext cx="823320" cy="503280"/>
              </a:xfrm>
              <a:custGeom>
                <a:avLst/>
                <a:gdLst/>
                <a:ahLst/>
                <a:rect l="l" t="t" r="r" b="b"/>
                <a:pathLst>
                  <a:path w="513" h="328">
                    <a:moveTo>
                      <a:pt x="0" y="322"/>
                    </a:moveTo>
                    <a:lnTo>
                      <a:pt x="7" y="328"/>
                    </a:lnTo>
                    <a:lnTo>
                      <a:pt x="513" y="0"/>
                    </a:lnTo>
                    <a:lnTo>
                      <a:pt x="506" y="0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708280" y="366912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54" y="62"/>
                    </a:moveTo>
                    <a:lnTo>
                      <a:pt x="61" y="5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079160" y="22320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133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167720" y="2189160"/>
                <a:ext cx="43200" cy="3168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233600" y="217980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265640" y="215820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331520" y="213696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353840" y="2116800"/>
                <a:ext cx="43200" cy="201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19720" y="2095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4535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519440" y="20631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5514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606200" y="20217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639680" y="19911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694040" y="1980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67080" y="1077120"/>
                <a:ext cx="1327320" cy="734040"/>
              </a:xfrm>
              <a:prstGeom prst="ellipse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928160" y="1203120"/>
                <a:ext cx="7030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928160" y="1203120"/>
                <a:ext cx="6260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928160" y="1213920"/>
                <a:ext cx="6372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928160" y="1213920"/>
                <a:ext cx="69192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928160" y="1224720"/>
                <a:ext cx="691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28520" y="1224720"/>
                <a:ext cx="59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lterna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039040" y="1350720"/>
                <a:ext cx="47160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039040" y="135072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039040" y="1350720"/>
                <a:ext cx="437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039040" y="1359720"/>
                <a:ext cx="492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039040" y="1370520"/>
                <a:ext cx="492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038320" y="1370520"/>
                <a:ext cx="41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994040" y="1496520"/>
                <a:ext cx="548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994040" y="1496520"/>
                <a:ext cx="50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962000" y="1507320"/>
                <a:ext cx="4928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962000" y="1517760"/>
                <a:ext cx="558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962000" y="1528560"/>
                <a:ext cx="548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962000" y="1528560"/>
                <a:ext cx="465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68000" y="1937160"/>
                <a:ext cx="27432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113000" y="194796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113000" y="19587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113000" y="195876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113000" y="1969560"/>
                <a:ext cx="19728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13000" y="198036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113000" y="19803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321800" y="2063160"/>
                <a:ext cx="120240" cy="147240"/>
              </a:xfrm>
              <a:custGeom>
                <a:avLst/>
                <a:gdLst/>
                <a:ahLst/>
                <a:rect l="l" t="t" r="r" b="b"/>
                <a:pathLst>
                  <a:path w="75" h="96">
                    <a:moveTo>
                      <a:pt x="6" y="0"/>
                    </a:moveTo>
                    <a:lnTo>
                      <a:pt x="0" y="0"/>
                    </a:lnTo>
                    <a:lnTo>
                      <a:pt x="68" y="96"/>
                    </a:lnTo>
                    <a:lnTo>
                      <a:pt x="75" y="8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670360" y="1706760"/>
                <a:ext cx="494640" cy="2210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770080" y="1748160"/>
                <a:ext cx="37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770080" y="1748160"/>
                <a:ext cx="3290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770080" y="1748160"/>
                <a:ext cx="31752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770080" y="1758960"/>
                <a:ext cx="383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770080" y="1769760"/>
                <a:ext cx="372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69720" y="176976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639680" y="2325600"/>
                <a:ext cx="492840" cy="2318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737600" y="2368440"/>
                <a:ext cx="374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37600" y="2379240"/>
                <a:ext cx="3290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37600" y="2379240"/>
                <a:ext cx="3193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737600" y="2388600"/>
                <a:ext cx="3852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737600" y="2388600"/>
                <a:ext cx="385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736520" y="238860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111640" y="23058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155200" y="22734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188680" y="2242800"/>
                <a:ext cx="3204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231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264280" y="2179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320440" y="21474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340960" y="21168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397480" y="20955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418360" y="2053800"/>
                <a:ext cx="44640" cy="3096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3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472720" y="2032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506560" y="1991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550120" y="1969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583600" y="1928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626800" y="1906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660640" y="1874520"/>
                <a:ext cx="936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386320" y="2053800"/>
                <a:ext cx="109080" cy="10440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7" y="0"/>
                    </a:moveTo>
                    <a:lnTo>
                      <a:pt x="0" y="6"/>
                    </a:lnTo>
                    <a:lnTo>
                      <a:pt x="61" y="68"/>
                    </a:lnTo>
                    <a:lnTo>
                      <a:pt x="68" y="6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484240" y="250524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538600" y="2514600"/>
                <a:ext cx="26316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538600" y="252540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538600" y="2525400"/>
                <a:ext cx="1972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538600" y="2535840"/>
                <a:ext cx="25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538600" y="254664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538600" y="2546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516360" y="2955240"/>
                <a:ext cx="6692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570720" y="2976840"/>
                <a:ext cx="646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570720" y="2976840"/>
                <a:ext cx="592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570720" y="297684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570720" y="298764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570720" y="299808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571080" y="299808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965640" y="34912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1"/>
                    </a:moveTo>
                    <a:lnTo>
                      <a:pt x="14" y="21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943320" y="3460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922440" y="339768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7" y="27"/>
                    </a:moveTo>
                    <a:lnTo>
                      <a:pt x="7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911280" y="33652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77440" y="33130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0"/>
                    </a:moveTo>
                    <a:lnTo>
                      <a:pt x="7" y="20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856560" y="32810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833880" y="321768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7" y="28"/>
                    </a:move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82272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790680" y="3134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7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471360" y="4404960"/>
                <a:ext cx="669240" cy="1886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527520" y="4426200"/>
                <a:ext cx="64656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527520" y="4435560"/>
                <a:ext cx="592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527520" y="443556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527520" y="44463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527520" y="44571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527880" y="445716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768360" y="4341960"/>
                <a:ext cx="2196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801840" y="4320360"/>
                <a:ext cx="972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822720" y="42573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8565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877440" y="418392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14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11280" y="4153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933960" y="410112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13" y="6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965640" y="406872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387680" y="5181840"/>
                <a:ext cx="6786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528800" y="5212440"/>
                <a:ext cx="4716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528800" y="5212440"/>
                <a:ext cx="428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28800" y="5212440"/>
                <a:ext cx="417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528800" y="52232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528800" y="52340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528800" y="523404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421080" y="2295000"/>
                <a:ext cx="680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564360" y="2305800"/>
                <a:ext cx="471600" cy="20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564360" y="2314800"/>
                <a:ext cx="426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64360" y="2314800"/>
                <a:ext cx="416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564360" y="2325600"/>
                <a:ext cx="471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64360" y="2336400"/>
                <a:ext cx="471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564360" y="233640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565720" y="5013000"/>
                <a:ext cx="114120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795040" y="5108040"/>
                <a:ext cx="7912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795040" y="5118840"/>
                <a:ext cx="70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795040" y="5118840"/>
                <a:ext cx="72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795040" y="5129640"/>
                <a:ext cx="78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795040" y="5139000"/>
                <a:ext cx="780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795040" y="5139000"/>
                <a:ext cx="68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774160" y="5255640"/>
                <a:ext cx="8330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774160" y="5264640"/>
                <a:ext cx="746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774160" y="5264640"/>
                <a:ext cx="778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774160" y="5275440"/>
                <a:ext cx="833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774160" y="5275440"/>
                <a:ext cx="8330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774160" y="5275440"/>
                <a:ext cx="732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amp; Service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398760" y="4383360"/>
                <a:ext cx="8568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509640" y="4404960"/>
                <a:ext cx="734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509640" y="440496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509640" y="4415760"/>
                <a:ext cx="71244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509640" y="4415760"/>
                <a:ext cx="701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509640" y="4426200"/>
                <a:ext cx="349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510000" y="442620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793680" y="4426200"/>
                <a:ext cx="471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793680" y="4426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826080" y="4426200"/>
                <a:ext cx="354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88680" y="4394160"/>
                <a:ext cx="8557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243040" y="4415760"/>
                <a:ext cx="844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243040" y="4415760"/>
                <a:ext cx="8330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243040" y="4415760"/>
                <a:ext cx="8125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243040" y="4426200"/>
                <a:ext cx="8668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243040" y="4435560"/>
                <a:ext cx="8668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243040" y="4435560"/>
                <a:ext cx="768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MSC 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671720" y="446796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223800" y="3753720"/>
                <a:ext cx="22320" cy="136440"/>
              </a:xfrm>
              <a:custGeom>
                <a:avLst/>
                <a:gdLst/>
                <a:ahLst/>
                <a:rect l="l" t="t" r="r" b="b"/>
                <a:pathLst>
                  <a:path w="14" h="89">
                    <a:moveTo>
                      <a:pt x="0" y="89"/>
                    </a:moveTo>
                    <a:lnTo>
                      <a:pt x="14" y="89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740680" y="3921120"/>
                <a:ext cx="99360" cy="10584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0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880520" y="49824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935320" y="4057920"/>
                <a:ext cx="2836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989680" y="407952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95400" y="407952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495400" y="4079520"/>
                <a:ext cx="18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495400" y="409032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495400" y="4101120"/>
                <a:ext cx="240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495400" y="41011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738960" y="412092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925440" y="40377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981240" y="4057920"/>
                <a:ext cx="252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981240" y="4057920"/>
                <a:ext cx="2296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81240" y="4057920"/>
                <a:ext cx="1861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981240" y="406872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981240" y="4079520"/>
                <a:ext cx="2408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981240" y="4079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024800" y="4930200"/>
                <a:ext cx="4831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113000" y="4950000"/>
                <a:ext cx="3722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15656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156560" y="4950000"/>
                <a:ext cx="1090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156560" y="496080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156560" y="4971600"/>
                <a:ext cx="165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156200" y="49716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277160" y="4897800"/>
                <a:ext cx="99360" cy="10620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7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848480" y="4971600"/>
                <a:ext cx="580680" cy="1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000760" y="4982400"/>
                <a:ext cx="374040" cy="2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045760" y="499320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045760" y="4993200"/>
                <a:ext cx="1090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045760" y="5004000"/>
                <a:ext cx="163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045760" y="5013000"/>
                <a:ext cx="1638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046120" y="50130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869360" y="4930200"/>
                <a:ext cx="153720" cy="82800"/>
              </a:xfrm>
              <a:custGeom>
                <a:avLst/>
                <a:gdLst/>
                <a:ahLst/>
                <a:rect l="l" t="t" r="r" b="b"/>
                <a:pathLst>
                  <a:path w="96" h="54">
                    <a:moveTo>
                      <a:pt x="7" y="0"/>
                    </a:moveTo>
                    <a:lnTo>
                      <a:pt x="0" y="7"/>
                    </a:lnTo>
                    <a:lnTo>
                      <a:pt x="89" y="54"/>
                    </a:lnTo>
                    <a:lnTo>
                      <a:pt x="96" y="4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246480" y="1528560"/>
                <a:ext cx="481320" cy="2826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344400" y="1580760"/>
                <a:ext cx="3175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344400" y="1580760"/>
                <a:ext cx="296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344400" y="158076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44400" y="1591560"/>
                <a:ext cx="339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344400" y="1602360"/>
                <a:ext cx="3398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344400" y="16023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C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498120" y="17910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464280" y="18435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432240" y="18957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409920" y="19479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77880" y="2010960"/>
                <a:ext cx="2088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344400" y="20631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300840" y="21168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6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267000" y="216900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246480" y="222120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212640" y="227340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180600" y="2325600"/>
                <a:ext cx="20520" cy="42480"/>
              </a:xfrm>
              <a:custGeom>
                <a:avLst/>
                <a:gdLst/>
                <a:ahLst/>
                <a:rect l="l" t="t" r="r" b="b"/>
                <a:pathLst>
                  <a:path w="13" h="28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46760" y="23792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6"/>
                    </a:move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69080" y="244224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01120" y="24944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234960" y="254664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267000" y="259920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312000" y="26514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344400" y="269424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377880" y="27464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421080" y="27986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454920" y="28508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486960" y="290304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530160" y="295524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564360" y="3008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596400" y="306108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641040" y="3113280"/>
                <a:ext cx="2088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673440" y="316548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246480" y="2063160"/>
                <a:ext cx="481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332880" y="2116800"/>
                <a:ext cx="3510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332880" y="2116800"/>
                <a:ext cx="318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332880" y="211680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332880" y="2126160"/>
                <a:ext cx="351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332880" y="213696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333600" y="21369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728160" y="2861640"/>
                <a:ext cx="1080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728160" y="292464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728160" y="2966040"/>
                <a:ext cx="1080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728160" y="302904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728160" y="3061080"/>
                <a:ext cx="1080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728160" y="312408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728160" y="3154680"/>
                <a:ext cx="1080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246480" y="2147400"/>
                <a:ext cx="864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30240" y="3742920"/>
                <a:ext cx="482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695760" y="3764520"/>
                <a:ext cx="428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695760" y="376452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695760" y="3764520"/>
                <a:ext cx="3513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695760" y="37753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695760" y="37861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696840" y="37861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620080" y="3816720"/>
                <a:ext cx="1009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090680" y="3816720"/>
                <a:ext cx="1579320" cy="21240"/>
              </a:xfrm>
              <a:custGeom>
                <a:avLst/>
                <a:gdLst/>
                <a:ahLst/>
                <a:rect l="l" t="t" r="r" b="b"/>
                <a:pathLst>
                  <a:path w="984" h="14">
                    <a:moveTo>
                      <a:pt x="0" y="0"/>
                    </a:moveTo>
                    <a:lnTo>
                      <a:pt x="0" y="14"/>
                    </a:lnTo>
                    <a:lnTo>
                      <a:pt x="984" y="14"/>
                    </a:lnTo>
                    <a:lnTo>
                      <a:pt x="984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573800" y="3868920"/>
                <a:ext cx="274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628160" y="3890160"/>
                <a:ext cx="2408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628160" y="3890160"/>
                <a:ext cx="219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628160" y="38901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628160" y="39009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628160" y="39117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628160" y="39117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06200" y="4278960"/>
                <a:ext cx="2743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671720" y="4300560"/>
                <a:ext cx="23112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671720" y="4300560"/>
                <a:ext cx="208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617360" y="4236120"/>
                <a:ext cx="1764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617360" y="424692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617360" y="42573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617000" y="425736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716720" y="3753720"/>
                <a:ext cx="1440" cy="147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694040" y="4404960"/>
                <a:ext cx="11160" cy="125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267000" y="3586320"/>
                <a:ext cx="242280" cy="18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180600" y="3595680"/>
                <a:ext cx="185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180600" y="3606480"/>
                <a:ext cx="174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180600" y="36064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180600" y="36172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180600" y="3617280"/>
                <a:ext cx="1857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180600" y="36172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289680" y="3586320"/>
                <a:ext cx="99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289680" y="3586320"/>
                <a:ext cx="87840" cy="11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114720" y="3900960"/>
                <a:ext cx="1861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114720" y="3900960"/>
                <a:ext cx="174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554200" y="39639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554200" y="39747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554200" y="3984120"/>
                <a:ext cx="186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553480" y="39841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223800" y="3879720"/>
                <a:ext cx="8784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034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111640" y="527544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16636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243040" y="527544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286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363640" y="527544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406840" y="5192640"/>
                <a:ext cx="801000" cy="198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484240" y="5223240"/>
                <a:ext cx="702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84240" y="5223240"/>
                <a:ext cx="603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84240" y="5223240"/>
                <a:ext cx="5922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484240" y="5234040"/>
                <a:ext cx="658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484240" y="5244840"/>
                <a:ext cx="658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484960" y="524484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21080" y="5212440"/>
                <a:ext cx="10800" cy="13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066640" y="4971600"/>
                <a:ext cx="231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103200" y="49824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146760" y="494100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180600" y="4876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223800" y="4845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246480" y="4782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289680" y="47505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21720" y="468720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66360" y="46458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89040" y="4582800"/>
                <a:ext cx="43200" cy="5220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143680" y="5370480"/>
                <a:ext cx="2534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143680" y="5370480"/>
                <a:ext cx="2084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143680" y="538128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143680" y="5390640"/>
                <a:ext cx="253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143320" y="5390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013280" y="456156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058640" y="46242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090680" y="4656600"/>
                <a:ext cx="33840" cy="52200"/>
              </a:xfrm>
              <a:custGeom>
                <a:avLst/>
                <a:gdLst/>
                <a:ahLst/>
                <a:rect l="l" t="t" r="r" b="b"/>
                <a:pathLst>
                  <a:path w="21" h="34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133880" y="4719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167720" y="4750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7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210920" y="4813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233600" y="4856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288320" y="490860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310640" y="49500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7" y="28"/>
                    </a:lnTo>
                    <a:lnTo>
                      <a:pt x="2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365000" y="500400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38768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0"/>
                    </a:lnTo>
                    <a:lnTo>
                      <a:pt x="20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442400" y="51080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462920" y="513900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278520" y="5004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355200" y="4993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398760" y="4971600"/>
                <a:ext cx="65520" cy="2124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475800" y="496080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520800" y="4941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6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596400" y="493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41040" y="4908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718080" y="489780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761640" y="48765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838680" y="4856400"/>
                <a:ext cx="3168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881880" y="4845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959280" y="48243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013280" y="4804200"/>
                <a:ext cx="54360" cy="3060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13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07916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24520" y="47721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6" y="7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99760" y="4761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244760" y="474084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321800" y="4730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365000" y="4708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442400" y="46980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485600" y="46782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562640" y="4667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606200" y="4645800"/>
                <a:ext cx="55800" cy="2124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682880" y="4635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727880" y="4615200"/>
                <a:ext cx="65880" cy="19800"/>
              </a:xfrm>
              <a:custGeom>
                <a:avLst/>
                <a:gdLst/>
                <a:ahLst/>
                <a:rect l="l" t="t" r="r" b="b"/>
                <a:pathLst>
                  <a:path w="41" h="13">
                    <a:moveTo>
                      <a:pt x="6" y="6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803480" y="4593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848480" y="4572000"/>
                <a:ext cx="54000" cy="320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34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925520" y="456156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968720" y="454140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45760" y="45306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89320" y="45093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166360" y="4498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233600" y="4467960"/>
                <a:ext cx="6552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3218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3650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4424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485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573800" y="44679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617360" y="446796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6940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737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82580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869360" y="446796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946400" y="4467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9914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666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11164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827520" y="3921120"/>
                <a:ext cx="11160" cy="6264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827520" y="40053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827520" y="4047120"/>
                <a:ext cx="1116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827520" y="4120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827520" y="4163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827520" y="4246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827520" y="4289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827520" y="43635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846760" y="38797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46760" y="395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46760" y="3994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46760" y="4068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846760" y="4120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846760" y="4194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846760" y="423612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46760" y="430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46760" y="4352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021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110280" y="4478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153480" y="44784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23052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273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36228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05480" y="447840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374800" y="45828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331600" y="46350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275440" y="46674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7"/>
                    </a:move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243040" y="47088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77520" y="4740840"/>
                <a:ext cx="43200" cy="417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14368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077800" y="4813560"/>
                <a:ext cx="54360" cy="4248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8" y="7"/>
                    </a:move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045760" y="48672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6"/>
                    </a:move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991400" y="48978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0" y="7"/>
                    </a:move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946400" y="49500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4" y="7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891680" y="49716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859280" y="50238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79376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759920" y="5097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705560" y="512964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0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671720" y="518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234960" y="4813560"/>
                <a:ext cx="3063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234960" y="4813560"/>
                <a:ext cx="2854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234960" y="4824360"/>
                <a:ext cx="3402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234960" y="4834800"/>
                <a:ext cx="3402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234960" y="48348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146760" y="4845600"/>
                <a:ext cx="882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718080" y="4941000"/>
                <a:ext cx="306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718080" y="4941000"/>
                <a:ext cx="2840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71808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718080" y="4950000"/>
                <a:ext cx="3402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718080" y="49500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630240" y="4887000"/>
                <a:ext cx="87840" cy="63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401840" y="334404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456200" y="3365280"/>
                <a:ext cx="1537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456200" y="337608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456200" y="337608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456200" y="337608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456200" y="338688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456560" y="3386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873440" y="3344040"/>
                <a:ext cx="37404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973160" y="3365280"/>
                <a:ext cx="2516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973160" y="337608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973160" y="3376080"/>
                <a:ext cx="217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973160" y="3376080"/>
                <a:ext cx="2836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973160" y="3386880"/>
                <a:ext cx="2743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973160" y="338688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127160" y="3165480"/>
                <a:ext cx="2970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181880" y="318708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181880" y="319788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181880" y="3197880"/>
                <a:ext cx="1875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181880" y="320868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181880" y="321768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181520" y="321768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587960" y="3165480"/>
                <a:ext cx="3949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676160" y="3187080"/>
                <a:ext cx="285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676160" y="319788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676160" y="3197880"/>
                <a:ext cx="208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676160" y="320868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676160" y="321768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676520" y="321768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148120" y="3039480"/>
                <a:ext cx="483120" cy="325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202480" y="3187080"/>
                <a:ext cx="439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202480" y="3197880"/>
                <a:ext cx="439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279880" y="3197880"/>
                <a:ext cx="2311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236680" y="3039480"/>
                <a:ext cx="4269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236680" y="3050280"/>
                <a:ext cx="3290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235960" y="3050280"/>
                <a:ext cx="261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SS/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236680" y="3187080"/>
                <a:ext cx="4716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236680" y="3187080"/>
                <a:ext cx="406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E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40184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96200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48968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04876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2620080" y="3281040"/>
                <a:ext cx="81216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828880" y="3029040"/>
                <a:ext cx="186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003840" y="3291840"/>
                <a:ext cx="1857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058560" y="326052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05784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355200" y="4404960"/>
                <a:ext cx="33840" cy="2124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1" y="14"/>
                    </a:move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332880" y="4383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300840" y="43527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267000" y="4331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234960" y="43005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212640" y="4289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169080" y="4257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1467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103200" y="4205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80880" y="4183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37320" y="41533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15360" y="413172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971800" y="410112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949480" y="4079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905920" y="40471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883600" y="40377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840040" y="4005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817360" y="3984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774160" y="3953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751480" y="3931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708280" y="3900960"/>
                <a:ext cx="3204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685960" y="3879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642760" y="384876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620080" y="38275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 flipV="1">
                <a:off x="2619720" y="3281040"/>
                <a:ext cx="1009800" cy="524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377880" y="4415760"/>
                <a:ext cx="2088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366360" y="4394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332880" y="43527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312000" y="43203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4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289680" y="42789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7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267000" y="425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246480" y="4215960"/>
                <a:ext cx="20520" cy="309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6" y="20"/>
                    </a:moveTo>
                    <a:lnTo>
                      <a:pt x="6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223800" y="4194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201120" y="4153320"/>
                <a:ext cx="2232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13"/>
                    </a:move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180600" y="412092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146760" y="407952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4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135240" y="4057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103200" y="40161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092040" y="39841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058560" y="39423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037320" y="392112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015360" y="3879720"/>
                <a:ext cx="2196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992680" y="3858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971800" y="380592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949480" y="3786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917440" y="37429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905920" y="3723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872080" y="367992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4" y="14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14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860920" y="3649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828880" y="360648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817360" y="35863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785320" y="3543480"/>
                <a:ext cx="20520" cy="316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6" y="21"/>
                    </a:moveTo>
                    <a:lnTo>
                      <a:pt x="6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763000" y="3523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740680" y="346968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718000" y="3449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697480" y="340668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674800" y="3386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642760" y="33440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14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631600" y="3313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60892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817360" y="3417480"/>
                <a:ext cx="99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817360" y="34282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817360" y="34390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817000" y="34390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917440" y="340668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0" y="62"/>
                    </a:moveTo>
                    <a:lnTo>
                      <a:pt x="0" y="62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708280" y="344988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61"/>
                    </a:moveTo>
                    <a:lnTo>
                      <a:pt x="6" y="68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52120" y="3228480"/>
                <a:ext cx="78012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169080" y="3271320"/>
                <a:ext cx="11160" cy="41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785320" y="3197880"/>
                <a:ext cx="144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740680" y="3029040"/>
                <a:ext cx="119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740680" y="3039480"/>
                <a:ext cx="176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739960" y="3039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6" name=""/>
            <p:cNvSpPr/>
            <p:nvPr/>
          </p:nvSpPr>
          <p:spPr>
            <a:xfrm>
              <a:off x="2638440" y="3581280"/>
              <a:ext cx="4952880" cy="1295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095640" y="3124080"/>
              <a:ext cx="2514600" cy="457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162320" y="2133720"/>
              <a:ext cx="3657600" cy="1143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00160" y="4572000"/>
              <a:ext cx="199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ircuit-Switch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1876320" y="457164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00160" y="2133720"/>
              <a:ext cx="184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cket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876320" y="2590920"/>
              <a:ext cx="1371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443000" y="3200400"/>
              <a:ext cx="1285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ulti-Med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 flipV="1">
              <a:off x="7819560" y="297144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3047400" y="409680"/>
            <a:ext cx="30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4876920" y="4343400"/>
          <a:ext cx="3581280" cy="1523880"/>
        </p:xfrm>
        <a:graphic>
          <a:graphicData uri="http://schemas.openxmlformats.org/drawingml/2006/table">
            <a:tbl>
              <a:tblPr/>
              <a:tblGrid>
                <a:gridCol w="685800"/>
                <a:gridCol w="1676520"/>
                <a:gridCol w="1218960"/>
              </a:tblGrid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SC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ession content under control of CSCF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3" name=""/>
          <p:cNvSpPr/>
          <p:nvPr/>
        </p:nvSpPr>
        <p:spPr>
          <a:xfrm>
            <a:off x="609480" y="2590920"/>
            <a:ext cx="0" cy="380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914400" y="3048120"/>
            <a:ext cx="5335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 flipV="1">
            <a:off x="1676520" y="2361960"/>
            <a:ext cx="4572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895480" y="2362320"/>
            <a:ext cx="99072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62120" y="2590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914400" y="3124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209680" y="312408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447920" y="28954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28954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133720" y="22096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572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57200" y="28954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067400" y="2743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841920" y="1981080"/>
            <a:ext cx="1460160" cy="80820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035600" y="1959120"/>
            <a:ext cx="1001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189680" y="2179800"/>
            <a:ext cx="76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4164120" y="236232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133720" y="3352680"/>
            <a:ext cx="0" cy="152424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819520" y="2743200"/>
            <a:ext cx="0" cy="22096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981080" y="3048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2438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3637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2781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6783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362320" y="342900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3581280" y="2514600"/>
            <a:ext cx="533520" cy="380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200400" y="3352680"/>
            <a:ext cx="0" cy="16002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905120" y="3809880"/>
            <a:ext cx="1523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eliver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0481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2785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278520" y="21337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830600" y="25909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60164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981080" y="48006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886200" y="3505320"/>
            <a:ext cx="914400" cy="533160"/>
          </a:xfrm>
          <a:prstGeom prst="wedgeRoundRectCallout">
            <a:avLst>
              <a:gd name="adj1" fmla="val -67013"/>
              <a:gd name="adj2" fmla="val -124703"/>
              <a:gd name="adj3" fmla="val 16667"/>
            </a:avLst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Nat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O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095960" y="2827440"/>
            <a:ext cx="1460520" cy="80784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311960" y="3025800"/>
            <a:ext cx="1001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543800" y="304812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H="1" flipV="1">
            <a:off x="7391160" y="2361960"/>
            <a:ext cx="2286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V="1">
            <a:off x="6095880" y="2362320"/>
            <a:ext cx="0" cy="45720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400800" y="2209680"/>
            <a:ext cx="68580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 flipV="1">
            <a:off x="6476760" y="2971440"/>
            <a:ext cx="68580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715000" y="28195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57150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01028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987480" y="1447920"/>
            <a:ext cx="31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/Sessions Directed to 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715000" y="1447920"/>
            <a:ext cx="19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 Directed to P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718960" y="3429000"/>
            <a:ext cx="136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Traffic Intercep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@ SGSN/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5562720" y="38862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2163240" y="2492280"/>
            <a:ext cx="444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3" name=""/>
          <p:cNvGraphicFramePr/>
          <p:nvPr/>
        </p:nvGraphicFramePr>
        <p:xfrm>
          <a:off x="571680" y="1295280"/>
          <a:ext cx="8001000" cy="4343400"/>
        </p:xfrm>
        <a:graphic>
          <a:graphicData uri="http://schemas.openxmlformats.org/drawingml/2006/table">
            <a:tbl>
              <a:tblPr/>
              <a:tblGrid>
                <a:gridCol w="1028520"/>
                <a:gridCol w="1066680"/>
                <a:gridCol w="1219320"/>
                <a:gridCol w="1143000"/>
                <a:gridCol w="3543480"/>
              </a:tblGrid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dds support for Packet Domain (i.e., GPRS). Taken from GPRS LI architecture and capabilit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rimary impact on the access to correlate and coordinate circuit-mode IRI from the server and content from the media gatewa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upport needed for Multi-Media services via CSCF. TS 33.107 addresses Access-DF (X)  interfaces. Impacts ETSI HI interfac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Delivery of Real Time MultiMedia services via HI interfaces needed. </a:t>
                      </a: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re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TP, ROSE, and TCP/IP suitable for delivery of real-time communicati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SIP Call/Session IR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4" name=""/>
          <p:cNvSpPr/>
          <p:nvPr/>
        </p:nvSpPr>
        <p:spPr>
          <a:xfrm>
            <a:off x="2577600" y="380880"/>
            <a:ext cx="398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for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5" name=""/>
          <p:cNvGraphicFramePr/>
          <p:nvPr/>
        </p:nvGraphicFramePr>
        <p:xfrm>
          <a:off x="457200" y="1447920"/>
          <a:ext cx="8229600" cy="4276440"/>
        </p:xfrm>
        <a:graphic>
          <a:graphicData uri="http://schemas.openxmlformats.org/drawingml/2006/table">
            <a:tbl>
              <a:tblPr/>
              <a:tblGrid>
                <a:gridCol w="1130040"/>
                <a:gridCol w="1403640"/>
                <a:gridCol w="1504800"/>
                <a:gridCol w="1981080"/>
                <a:gridCol w="221004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I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GS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ement on Q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ordinating CSCF services (IRI) with content @ GS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1-T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L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circu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ID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/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 C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.S. J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3 GP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1.1 Reporting C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ending FC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 and 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Common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undamental differences in ETSI and T1-TIA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based on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 (QOS/transport issu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RI/CRI 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6" name=""/>
          <p:cNvSpPr/>
          <p:nvPr/>
        </p:nvSpPr>
        <p:spPr>
          <a:xfrm>
            <a:off x="2673360" y="380880"/>
            <a:ext cx="37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LI Capabilitie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GPP/ETSI and T1-TIA CAL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/>
          <p:nvPr/>
        </p:nvSpPr>
        <p:spPr>
          <a:xfrm>
            <a:off x="2128320" y="1752480"/>
            <a:ext cx="444492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The E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1823400" y="198108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cket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9144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981800" y="28195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743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582360" y="464832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066680" y="523224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066680" y="54608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830600" y="510552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374120" y="1295280"/>
            <a:ext cx="201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dd 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411880" y="46483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3459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828800" y="3657600"/>
            <a:ext cx="83808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438280" y="441972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276720" y="45720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267080" y="4419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819520" y="2666880"/>
            <a:ext cx="106668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3962160" y="2743200"/>
            <a:ext cx="990360" cy="8380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962520" y="3581280"/>
            <a:ext cx="6858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2971800" y="3581280"/>
            <a:ext cx="9144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867280" y="41911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830600" y="41148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181480" y="4572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505320" y="3429000"/>
            <a:ext cx="838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1828800" y="2666880"/>
            <a:ext cx="8380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590920" y="2209680"/>
            <a:ext cx="838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505320" y="25146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95680" y="2209680"/>
            <a:ext cx="914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486400" y="2514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95880" y="2133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430440" y="29718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572000" y="2971800"/>
            <a:ext cx="29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820800" y="443088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9600" y="220968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Circuit-Switch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0" name=""/>
          <p:cNvGraphicFramePr/>
          <p:nvPr/>
        </p:nvGraphicFramePr>
        <p:xfrm>
          <a:off x="1828800" y="2209680"/>
          <a:ext cx="48290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09680"/>
                    <a:ext cx="48290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2" name=""/>
          <p:cNvSpPr/>
          <p:nvPr/>
        </p:nvSpPr>
        <p:spPr>
          <a:xfrm>
            <a:off x="1077840" y="1371600"/>
            <a:ext cx="596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974240" y="5105520"/>
            <a:ext cx="40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MSC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3276720"/>
            <a:ext cx="1447920" cy="380880"/>
          </a:xfrm>
          <a:prstGeom prst="wedgeRoundRectCallout">
            <a:avLst>
              <a:gd name="adj1" fmla="val -47259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M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6858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9810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1430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5238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2574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44792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493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135520" y="35812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990360" y="2057400"/>
            <a:ext cx="198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1480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4864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648320" y="411480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029200" y="54100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762440" y="2666880"/>
            <a:ext cx="14479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989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725360" y="205740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57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88680" y="2971800"/>
            <a:ext cx="5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1240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86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16600" y="297180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000800" y="1371600"/>
            <a:ext cx="59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819520" y="480060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135520" y="480060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705720" y="396252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639760" y="48006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8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1302840" y="1447920"/>
            <a:ext cx="54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for R99 (Packet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095880" y="3276720"/>
            <a:ext cx="1600200" cy="380880"/>
          </a:xfrm>
          <a:prstGeom prst="wedgeRoundRectCallout">
            <a:avLst>
              <a:gd name="adj1" fmla="val -47518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N Data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9:14:42Z</dcterms:created>
  <dc:creator>Ronald D. (Ron) Ryan</dc:creator>
  <dc:description/>
  <dc:language>en-US</dc:language>
  <cp:lastModifiedBy>Superuser</cp:lastModifiedBy>
  <dcterms:modified xsi:type="dcterms:W3CDTF">2001-09-03T10:57:12Z</dcterms:modified>
  <cp:revision>148</cp:revision>
  <dc:subject>Lawful Intercept</dc:subject>
  <dc:title>Overview of 3G UMTS LI Capabilities</dc:title>
</cp:coreProperties>
</file>