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C27A9-77AE-4136-8B52-38762E6573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9EAEF4-F030-40B7-AE85-C8B4294451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925D60-E329-4DB0-8C23-246D86DF84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33C270-875B-4737-A919-8E7EA00054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5659B5-D137-40D7-91D1-397B21744A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E62647-D2CE-4166-9B3C-D8FAB8EA40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CFE49C-5AF4-4F7F-B625-BF445216C4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B173D0-AF9A-4785-95D5-FB35B43B9C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567013-A92B-473C-9B85-6289D52642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1BB797-B6F7-45F2-8D75-DCE0552EE2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C1BC33-8983-49B9-98D0-A206CC7B14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619A30-0565-4EC9-9C29-6AB9C1F7EC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D617BA-A50A-40F9-8CDD-C947794870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E9686-75AC-49B0-8FB9-5547CE726217}" type="datetime3">
              <a:rPr b="0" lang="en-US" sz="1400" spc="-1" strike="noStrike">
                <a:solidFill>
                  <a:srgbClr val="ffffff"/>
                </a:solidFill>
                <a:latin typeface="Times New Roman"/>
              </a:rPr>
              <a:t>July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0DB50-8E96-46B6-9746-EFDDFBF0D33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FEAC7D63-A95A-4F81-92F5-C28C3AE779A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14B17CD7-0944-48F3-BF59-35C10871B6E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652A0750-C60A-4A63-BBFF-61D658C743A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B001C107-C4BC-4D72-894E-204063732E8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78F1008C-2EE4-4D45-8FA0-C5AD8EB2989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68F72FAE-78DF-4B0C-B445-17CA50112E40}"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37669AFB-F2B9-4B51-8CA8-42F9A60950B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AD001935-215C-4E57-A76C-06053911A4D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A8A1E1E4-80D7-4720-A73B-EC9A8E782B2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DC159859-438F-4386-B83A-12BCA10948D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C503CD26-414C-4133-9B2B-D4207D23A18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EEDD1CA6-7E27-4E68-B865-2AFEA68D13D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2C98390A-C085-4952-925A-A5FE4324C15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6FF8A821-9417-451F-B6B8-9E4C28475F6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