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E9542-9CBF-4CB5-94DF-6C62859600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949C8E-E1CE-4D5A-A035-ACD0B102F9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9F9535-9D4E-4E97-BCB1-1301E27F87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89158F-1D15-414D-8827-004E98A40F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B2CA0D-629F-4CF5-A5DC-2151DE32CF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F8C60D-5AF5-4326-893D-BE9A521782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28B732-2462-4876-ABBE-AD51F7FC7D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7F5001-27CD-4223-AF0F-92F659B154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10F66F-B9F8-40D6-9F60-F0AAC6D703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AB7EE1-9136-4207-B4E3-106F64512D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7794A7-754A-49A5-9BBF-2329C60CA6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F37007-2DD5-4319-9A25-F077EFDF42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38BE8C-8BB5-422C-A9BA-87C577C547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9D477-B5BF-41BD-92D1-177101138844}" type="datetime3">
              <a:rPr b="0" lang="en-US" sz="1400" spc="-1" strike="noStrike">
                <a:solidFill>
                  <a:srgbClr val="ffffff"/>
                </a:solidFill>
                <a:latin typeface="Times New Roman"/>
              </a:rPr>
              <a:t>July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F0313-F4EB-422E-B5F5-EE9C7A780B7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82FAF5D8-C6E6-49E5-8154-DAE72B91115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844E7BE0-09C2-45C3-8C79-1C5FC926EA6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6B3270E1-B8FE-41CB-A663-D245C999CDC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73363467-696C-48D7-B96C-3F601467DFA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E58B9687-1AB1-410E-8349-3F2F8BCB5DB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90B1CEFF-CFE0-42D9-AE98-074337C614E0}"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0BC3DE59-0EA7-4884-817C-1D870D96B40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639ED043-1499-4EED-AD0D-7FEA5C87988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C64D0B69-746E-4F73-9B76-CE929284462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CF23F2AE-B906-4457-A11F-E945256D9E6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41B34441-1A44-4062-9233-D4EBACCBF25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8CE90DFA-3525-422B-9366-BD86B7AA04C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F0A51AB4-18B9-4B38-A05A-BEEE88AECEA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04D5B350-5E67-4EE7-9907-15EBD9C4C76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